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57E-8AE5-45D5-A8D5-F6ED7D7C6F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5D7-AEE3-4CF5-893A-E674D69D4E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itaminas especificidad fad g prostetico nad co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910-792D-4219-9039-CB8B5D9B32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ctiviada de enzimas gást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1253-320E-40CF-9553-C255DEBCDA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Hablar de Km y orden de la reac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6D0-0E46-4385-A50E-8C2570C9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080-8F7C-4A9D-8DB1-2733D865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2DD-3E8A-46AD-9A3D-D37757E9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200-957B-44EE-8C1A-2AC9685D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A25-0DC6-401E-92AB-DE240FD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CB5-C677-42CF-B298-468B1539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9B0-E329-4166-8848-6D6A4687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0A5-EF9D-4840-A45E-1BB5FD55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961-76E5-4DDE-BD83-B382F891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FFE-5CF1-4809-BF95-1BFCDB2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E08-7397-47F4-A077-ECEF5109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9B3-A220-41CF-8310-F4576AE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E5A-24D7-43C5-9E83-87A07E02E1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0" y="33336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BOLILLA 1: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ntroducción: Nomenclatura y clasific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Determinación de la actividad enzimática. Unidad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mplejo enzima-sustrato. Sitio activo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inética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Factores que modifican la actividad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Tipos de Inhibicione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Enzimas alostéricas. Propiedades y ciné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Control por proteínas: activación proteolí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Modulación covalente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Isoenzimas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Regulación de la expresión génica: represión e inducción enzimátic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 de texto 4"/>
          <p:cNvSpPr/>
          <p:nvPr/>
        </p:nvSpPr>
        <p:spPr>
          <a:xfrm>
            <a:off x="2465280" y="3078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Cuadro de texto 5"/>
          <p:cNvSpPr/>
          <p:nvPr/>
        </p:nvSpPr>
        <p:spPr>
          <a:xfrm>
            <a:off x="360360" y="836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Unión Internacional de Bioquímica y Biología Molecular (IUBMB)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ángulo 7"/>
          <p:cNvSpPr/>
          <p:nvPr/>
        </p:nvSpPr>
        <p:spPr>
          <a:xfrm>
            <a:off x="71280" y="1775160"/>
            <a:ext cx="900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Se asigna a </a:t>
            </a:r>
            <a:r>
              <a:rPr b="1" lang="es-AR" sz="1800" spc="-1" strike="noStrike">
                <a:solidFill>
                  <a:srgbClr val="ffffff"/>
                </a:solidFill>
                <a:latin typeface="Comic Sans MS"/>
              </a:rPr>
              <a:t>cada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enzima un nombre descriptivo y u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núm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que permite identificarla inequívocam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Cuadro de texto 10"/>
          <p:cNvSpPr/>
          <p:nvPr/>
        </p:nvSpPr>
        <p:spPr>
          <a:xfrm>
            <a:off x="360360" y="3716280"/>
            <a:ext cx="85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Hexoquin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ombre sistemátic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ATP: glucosa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ódigo de 4 dígit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2.7.1.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2: 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clase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7: fosfotransferas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Subsubclase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1: fosfotransferasa con un grupo hidroxilo como acept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Comic Sans MS"/>
              </a:rPr>
              <a:t>N° de orden de la enzima en su subclase 1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: glucosa como aceptor del grupo fosf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Imagen 11" descr=""/>
          <p:cNvPicPr/>
          <p:nvPr/>
        </p:nvPicPr>
        <p:blipFill>
          <a:blip r:embed="rId1"/>
          <a:stretch/>
        </p:blipFill>
        <p:spPr>
          <a:xfrm>
            <a:off x="2303640" y="2781360"/>
            <a:ext cx="45367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2" descr=""/>
          <p:cNvPicPr/>
          <p:nvPr/>
        </p:nvPicPr>
        <p:blipFill>
          <a:blip r:embed="rId1"/>
          <a:stretch/>
        </p:blipFill>
        <p:spPr>
          <a:xfrm>
            <a:off x="826920" y="0"/>
            <a:ext cx="7791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CuadroTexto"/>
          <p:cNvSpPr/>
          <p:nvPr/>
        </p:nvSpPr>
        <p:spPr>
          <a:xfrm>
            <a:off x="250920" y="404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OXIDORREDUCT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HIDROGENASAS, OXIDASAS, OXIGENASAS, REDUCTASAS, PEROXID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TRANSF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TRANSCARBOXILASAS, TRANSMETILASAS Y TRAN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HIDROL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STERASAS, FOSFATASAS, PEPTID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DESCARBOXILASAS, HIDRATASAS, DESHIDRATASAS, DESAMIN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5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SOMER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EPIMERASAS, MUTAS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-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LIGAS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: SINTETASAS, CARBOXILAS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CuadroTexto"/>
          <p:cNvSpPr/>
          <p:nvPr/>
        </p:nvSpPr>
        <p:spPr>
          <a:xfrm>
            <a:off x="0" y="115920"/>
            <a:ext cx="903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FACTORE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gún su modo de interacción con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COENZIMAS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ión laxa a la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ctuaría como co-sustra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n moléculas orgánicas pequeñ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uchas se encuentran libres y solo se unen a la enzima en el momento de la catális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GRUPO PROSTÉT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olécula orgánica no prote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une fuertemente a la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lo se separa por desnaturaliz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IONES INORGÁN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niones - cati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uadro de texto 5"/>
          <p:cNvSpPr/>
          <p:nvPr/>
        </p:nvSpPr>
        <p:spPr>
          <a:xfrm>
            <a:off x="2195640" y="54936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FACTOR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Cuadro de texto 6"/>
          <p:cNvSpPr/>
          <p:nvPr/>
        </p:nvSpPr>
        <p:spPr>
          <a:xfrm>
            <a:off x="236520" y="1413000"/>
            <a:ext cx="89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ones inorgánicos:  Fe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g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 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Mn 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 Zn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s-AR" sz="2400" spc="-1" strike="noStrike" baseline="30000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upo 12"/>
          <p:cNvGrpSpPr/>
          <p:nvPr/>
        </p:nvGrpSpPr>
        <p:grpSpPr>
          <a:xfrm>
            <a:off x="677880" y="3139920"/>
            <a:ext cx="7362360" cy="1620720"/>
            <a:chOff x="677880" y="3139920"/>
            <a:chExt cx="7362360" cy="1620720"/>
          </a:xfrm>
        </p:grpSpPr>
        <p:sp>
          <p:nvSpPr>
            <p:cNvPr id="83" name="Cuadro de texto 13"/>
            <p:cNvSpPr/>
            <p:nvPr/>
          </p:nvSpPr>
          <p:spPr>
            <a:xfrm>
              <a:off x="677880" y="3139920"/>
              <a:ext cx="2605320" cy="9324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HOLOENZIMA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 =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Enzima total                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Cuadro de texto 14"/>
            <p:cNvSpPr/>
            <p:nvPr/>
          </p:nvSpPr>
          <p:spPr>
            <a:xfrm>
              <a:off x="3283200" y="3160080"/>
              <a:ext cx="2389320" cy="16005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APOENZIMA </a:t>
              </a:r>
              <a:r>
                <a:rPr b="1" i="1" lang="es-ES" sz="2000" spc="-1" strike="noStrike">
                  <a:solidFill>
                    <a:srgbClr val="ffffff"/>
                  </a:solidFill>
                  <a:latin typeface="Comic Sans MS"/>
                </a:rPr>
                <a:t> +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Proteín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lábil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dializ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Cuadro de texto 15"/>
            <p:cNvSpPr/>
            <p:nvPr/>
          </p:nvSpPr>
          <p:spPr>
            <a:xfrm>
              <a:off x="5869440" y="3160080"/>
              <a:ext cx="2170800" cy="137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omic Sans MS"/>
                </a:rPr>
                <a:t>COENZIM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No proteínica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omic Sans MS"/>
                </a:rPr>
                <a:t>Termoestabl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" name="1 CuadroTexto"/>
          <p:cNvSpPr/>
          <p:nvPr/>
        </p:nvSpPr>
        <p:spPr>
          <a:xfrm>
            <a:off x="335880" y="242100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n el caso de la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ENZIMAS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se forma un complej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187200" y="5084640"/>
            <a:ext cx="87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xidorreductasas, transferasas, isomerasas y ligasas requieren co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uadro de texto 4"/>
          <p:cNvSpPr/>
          <p:nvPr/>
        </p:nvSpPr>
        <p:spPr>
          <a:xfrm>
            <a:off x="125568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Rectángulo 5"/>
          <p:cNvSpPr/>
          <p:nvPr/>
        </p:nvSpPr>
        <p:spPr>
          <a:xfrm>
            <a:off x="468360" y="28159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LOCALIZACIÓN INTRACELULAR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Imagen 7" descr="cuatro"/>
          <p:cNvPicPr/>
          <p:nvPr/>
        </p:nvPicPr>
        <p:blipFill>
          <a:blip r:embed="rId1"/>
          <a:srcRect l="3914" t="2571" r="6168" b="6420"/>
          <a:stretch/>
        </p:blipFill>
        <p:spPr>
          <a:xfrm>
            <a:off x="4284720" y="1125360"/>
            <a:ext cx="4103640" cy="547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 de texto 4"/>
          <p:cNvSpPr/>
          <p:nvPr/>
        </p:nvSpPr>
        <p:spPr>
          <a:xfrm>
            <a:off x="1258920" y="333360"/>
            <a:ext cx="655164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PROPIEDADES DE LAS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Cuadro de texto 5"/>
          <p:cNvSpPr/>
          <p:nvPr/>
        </p:nvSpPr>
        <p:spPr>
          <a:xfrm>
            <a:off x="395280" y="112536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AC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gión de la molécu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nzimática a la que se une el sustrato por uniones no covalentes (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uente de hidrógeno, hidrofóbicas, electrostáticas)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agrupación de un número no muy grande de aminoácidos distribuidos espacialmente de manera preci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Imagen 7" descr="uno"/>
          <p:cNvPicPr/>
          <p:nvPr/>
        </p:nvPicPr>
        <p:blipFill>
          <a:blip r:embed="rId1"/>
          <a:stretch/>
        </p:blipFill>
        <p:spPr>
          <a:xfrm>
            <a:off x="838080" y="4297320"/>
            <a:ext cx="7394760" cy="219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7772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7" name="1 CuadroTexto"/>
          <p:cNvSpPr/>
          <p:nvPr/>
        </p:nvSpPr>
        <p:spPr>
          <a:xfrm>
            <a:off x="7558200" y="2133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476640" y="205596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de unión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3 CuadroTexto"/>
          <p:cNvSpPr/>
          <p:nvPr/>
        </p:nvSpPr>
        <p:spPr>
          <a:xfrm>
            <a:off x="555840" y="3289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Sitio catalítico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5159880" y="1763640"/>
            <a:ext cx="351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Hipótesis de Fischer: estructuras rígida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4087800" y="378288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Hipótesis de Koshland: estructuras adaptab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108000" y="189000"/>
            <a:ext cx="8928000" cy="62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HISTOR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A fines del siglo XVIII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: catalizadores en estudios de la digestión de la carne por secreciones del estómag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ouis Pasteur, 1850 (fermentos –azúcar </a:t>
            </a:r>
            <a:r>
              <a:rPr b="0" lang="es-E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alcohol- de la levadur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duard Buchner, 1897 (levaduras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Fredrick Kühne fue el primero en llamar a los fermentos: </a:t>
            </a:r>
            <a:r>
              <a:rPr b="0" lang="es-ES" sz="22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ames Summer, 1926 (ureas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John Northrop y Moses Kunitz, 1930 (pepsina, tripsina y quimotripsina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ffff"/>
                </a:solidFill>
                <a:uFillTx/>
                <a:latin typeface="Comic Sans MS"/>
              </a:rPr>
              <a:t>Estructura y función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3: 1º Secuencia de aminoácidos de la ribonucleasa pancreática bovina 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1965: 1º Estructura por RX de la Lisozima de clara de huevo de gallin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omic Sans MS"/>
              </a:rPr>
              <a:t>1983: Sidney Altman y Col. observaron que el RNA de la ribonucleasa  tiene actividad catalític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uadro de texto 5"/>
          <p:cNvSpPr/>
          <p:nvPr/>
        </p:nvSpPr>
        <p:spPr>
          <a:xfrm>
            <a:off x="971640" y="220500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Cuadro de texto 6"/>
          <p:cNvSpPr/>
          <p:nvPr/>
        </p:nvSpPr>
        <p:spPr>
          <a:xfrm>
            <a:off x="539640" y="189000"/>
            <a:ext cx="83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ZIMÓGEN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Algunas enzimas se sintetizan en la célula de origen al estado de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ECURSORES INACTIV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llamado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zimógen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oen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preenzimas.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Ej: Enzimas digestiv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Cuadro de texto 7"/>
          <p:cNvSpPr/>
          <p:nvPr/>
        </p:nvSpPr>
        <p:spPr>
          <a:xfrm>
            <a:off x="158760" y="2205000"/>
            <a:ext cx="8748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SISTEMAS MULTIENZIMÁTIC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Varias enzimas diferentes cuyas acciones se complementa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Están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ordenado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, generalmente en membranas, de modo que el producto de la reacción catalizada por la primera enzima es recibido como sustrato por la segunda y así sucesivamen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AR" sz="2000" spc="-1" strike="noStrike">
                <a:solidFill>
                  <a:srgbClr val="ffff00"/>
                </a:solidFill>
                <a:latin typeface="Comic Sans MS"/>
              </a:rPr>
              <a:t>transformaciones se producen según la secuencia establecida por la disposición espacial de los catalizadores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. Ej: Cadena Respirator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Cuadro de texto 8"/>
          <p:cNvSpPr/>
          <p:nvPr/>
        </p:nvSpPr>
        <p:spPr>
          <a:xfrm>
            <a:off x="192240" y="5300640"/>
            <a:ext cx="86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ENZIMAS MULTIFUNCIONA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resentan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varios sitios catalí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distintos en una misma cadena polipeptídica.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: ácido graso sint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Rectángulo"/>
          <p:cNvSpPr/>
          <p:nvPr/>
        </p:nvSpPr>
        <p:spPr>
          <a:xfrm>
            <a:off x="27000" y="692280"/>
            <a:ext cx="9036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Catálisis enzimá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células y organismos vivos deben realizar distintos tipos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para permanecer vivos y reproduci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síntesis continua de componentes celulares requiere de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quím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acumulación y retención de sales contra un gradiente de concentración implica la realización de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osmót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contracción muscular o el movimiento bacteriano representa u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trabajo mecánic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CuadroTexto"/>
          <p:cNvSpPr/>
          <p:nvPr/>
        </p:nvSpPr>
        <p:spPr>
          <a:xfrm>
            <a:off x="324000" y="76500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Comic Sans MS"/>
              </a:rPr>
              <a:t>Determinación de la actividad enzimá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puede determinar, midiend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La cantidad de producto form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O de sustrato consumi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n un tiempo dad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o una sumatoria de todos los factores requeridos para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326880" y="76500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CTIVIDAD ESPECÍF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s una expresión que indica la pureza relativa de una preparación enzimát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Relaciona Actividad Enzimática, no con el volumen de muestra, sino con el total de proteínas existentes en la misma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e define com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NIDADES DE ENZIMA POR MG DE PROTEÍNAS PRESENTES EN LA MUEST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ángulo 4"/>
          <p:cNvSpPr/>
          <p:nvPr/>
        </p:nvSpPr>
        <p:spPr>
          <a:xfrm>
            <a:off x="1249200" y="189000"/>
            <a:ext cx="6851880" cy="72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CTIVIDAD ENZIMAT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Cuadro de texto 6"/>
          <p:cNvSpPr/>
          <p:nvPr/>
        </p:nvSpPr>
        <p:spPr>
          <a:xfrm>
            <a:off x="468360" y="1414440"/>
            <a:ext cx="8351640" cy="27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Unidades Internacionale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antidad de enzima que cataliza la transformación de 1 </a:t>
            </a:r>
            <a:r>
              <a:rPr b="1" lang="el-GR" sz="2400" spc="-1" strike="noStrike">
                <a:solidFill>
                  <a:srgbClr val="ffffff"/>
                </a:solidFill>
                <a:latin typeface="Comic Sans MS"/>
              </a:rPr>
              <a:t>μ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ol (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Comic Sans MS"/>
              </a:rPr>
              <a:t>-6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mol) de Sustrato por minu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ustrato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Produc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Grupo 7"/>
          <p:cNvGrpSpPr/>
          <p:nvPr/>
        </p:nvGrpSpPr>
        <p:grpSpPr>
          <a:xfrm>
            <a:off x="1973160" y="4653000"/>
            <a:ext cx="5333760" cy="1116360"/>
            <a:chOff x="1973160" y="4653000"/>
            <a:chExt cx="5333760" cy="1116360"/>
          </a:xfrm>
        </p:grpSpPr>
        <p:sp>
          <p:nvSpPr>
            <p:cNvPr id="112" name="Cuadro de texto 8"/>
            <p:cNvSpPr/>
            <p:nvPr/>
          </p:nvSpPr>
          <p:spPr>
            <a:xfrm>
              <a:off x="1973160" y="5028840"/>
              <a:ext cx="15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U.I. =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Cuadro de texto 9"/>
            <p:cNvSpPr/>
            <p:nvPr/>
          </p:nvSpPr>
          <p:spPr>
            <a:xfrm>
              <a:off x="3188160" y="4653000"/>
              <a:ext cx="41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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ol de S transformado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Cuadro de texto 10"/>
            <p:cNvSpPr/>
            <p:nvPr/>
          </p:nvSpPr>
          <p:spPr>
            <a:xfrm>
              <a:off x="4405680" y="530964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minuto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Línea 11"/>
            <p:cNvSpPr/>
            <p:nvPr/>
          </p:nvSpPr>
          <p:spPr>
            <a:xfrm>
              <a:off x="3283200" y="5214600"/>
              <a:ext cx="40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1 CuadroTexto"/>
          <p:cNvSpPr/>
          <p:nvPr/>
        </p:nvSpPr>
        <p:spPr>
          <a:xfrm>
            <a:off x="11160" y="6237360"/>
            <a:ext cx="87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iempre bajo condiciones definidas de pH y temperatu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18" name="1 CuadroTexto"/>
          <p:cNvSpPr/>
          <p:nvPr/>
        </p:nvSpPr>
        <p:spPr>
          <a:xfrm>
            <a:off x="3351600" y="29829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omic Sans MS"/>
              </a:rPr>
              <a:t>(mol/se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324000" y="90792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Para todo esto, los seres vivos requieren y utilizan la energía de su entorn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La cantidad de energía realmente transformable en trabajo se denomina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lib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y ésta siempre será ligeramente inferior a la variación de </a:t>
            </a:r>
            <a:r>
              <a:rPr b="1" lang="es-AR" sz="2800" spc="-1" strike="noStrike" u="sng">
                <a:solidFill>
                  <a:srgbClr val="ffff00"/>
                </a:solidFill>
                <a:uFillTx/>
                <a:latin typeface="Comic Sans MS"/>
              </a:rPr>
              <a:t>energía total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, ya que una parte de la misma se disipa en forma de cal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1 Rectángulo"/>
          <p:cNvSpPr/>
          <p:nvPr/>
        </p:nvSpPr>
        <p:spPr>
          <a:xfrm>
            <a:off x="0" y="765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a variación de energía libre (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ergía de Gibb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 una reacción química es una expresión cuantitativa de lo lejos que se encuentra el sistema del equilibrio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que liberan energía libre se denomina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x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ado que los productos de estas reacciones tienen menor energía libre que los reactivos,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nega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quellas reacciones en las que los productos poseen mayor energía libre que los reactivos son 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endergónic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</a:t>
            </a: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G es positiv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n 2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36920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CuadroTexto"/>
          <p:cNvSpPr/>
          <p:nvPr/>
        </p:nvSpPr>
        <p:spPr>
          <a:xfrm>
            <a:off x="157320" y="333360"/>
            <a:ext cx="89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estado de transi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barrera de activación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, representa los cambios que se generan en la molécula del 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s barreras de activación son importantes para la estabilidad de las bi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por esto que las reacciones sin catalizar tienden a ser muy lent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moléculas biológicas son muy estables al pH neutro, temperatura suave y ambiente acuoso en el interior de las cél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Todas las reacciones químicas celulares se llevan a cabo porque las enzimas actúan disminuyendo la barrera energética entre el S y el 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 de texto 5"/>
          <p:cNvSpPr/>
          <p:nvPr/>
        </p:nvSpPr>
        <p:spPr>
          <a:xfrm>
            <a:off x="2087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 - FUNCIÓN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Cuadro de texto 6"/>
          <p:cNvSpPr/>
          <p:nvPr/>
        </p:nvSpPr>
        <p:spPr>
          <a:xfrm>
            <a:off x="324000" y="8287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los seres vivos se producen reacciones químicas para: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Cuadro de texto 7"/>
          <p:cNvSpPr/>
          <p:nvPr/>
        </p:nvSpPr>
        <p:spPr>
          <a:xfrm>
            <a:off x="0" y="1525680"/>
            <a:ext cx="91440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nsformar los nutrientes de los alimentos para obtener energí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ransformar nutrientes simples en moléculas complejas y vicevers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Obtener materia prima para la síntesis de nuevas molécula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Degradar componentes celulares una vez cumplida su vida úti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xtraer energía desde combustibles por oxidación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limerizar subunidades para formar macromolécul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ángulo 4"/>
          <p:cNvSpPr/>
          <p:nvPr/>
        </p:nvSpPr>
        <p:spPr>
          <a:xfrm>
            <a:off x="538200" y="258840"/>
            <a:ext cx="8066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ángulo 6"/>
          <p:cNvSpPr/>
          <p:nvPr/>
        </p:nvSpPr>
        <p:spPr>
          <a:xfrm>
            <a:off x="538200" y="127152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antidad saturante de sustrato, pH y T°C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" name="Grupo 13"/>
          <p:cNvGrpSpPr/>
          <p:nvPr/>
        </p:nvGrpSpPr>
        <p:grpSpPr>
          <a:xfrm>
            <a:off x="476280" y="2637000"/>
            <a:ext cx="5247720" cy="3784320"/>
            <a:chOff x="476280" y="2637000"/>
            <a:chExt cx="5247720" cy="3784320"/>
          </a:xfrm>
        </p:grpSpPr>
        <p:grpSp>
          <p:nvGrpSpPr>
            <p:cNvPr id="126" name="Grupo 7"/>
            <p:cNvGrpSpPr/>
            <p:nvPr/>
          </p:nvGrpSpPr>
          <p:grpSpPr>
            <a:xfrm>
              <a:off x="976680" y="2835000"/>
              <a:ext cx="4041360" cy="3085560"/>
              <a:chOff x="976680" y="2835000"/>
              <a:chExt cx="4041360" cy="3085560"/>
            </a:xfrm>
          </p:grpSpPr>
          <p:sp>
            <p:nvSpPr>
              <p:cNvPr id="127" name="Línea 8"/>
              <p:cNvSpPr/>
              <p:nvPr/>
            </p:nvSpPr>
            <p:spPr>
              <a:xfrm flipV="1">
                <a:off x="976680" y="2835000"/>
                <a:ext cx="0" cy="3085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ínea 9"/>
              <p:cNvSpPr/>
              <p:nvPr/>
            </p:nvSpPr>
            <p:spPr>
              <a:xfrm>
                <a:off x="976680" y="5881680"/>
                <a:ext cx="4041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Línea 10"/>
              <p:cNvSpPr/>
              <p:nvPr/>
            </p:nvSpPr>
            <p:spPr>
              <a:xfrm flipV="1">
                <a:off x="976680" y="3451680"/>
                <a:ext cx="3650400" cy="2468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30" name="Cuadro de texto 11"/>
            <p:cNvSpPr/>
            <p:nvPr/>
          </p:nvSpPr>
          <p:spPr>
            <a:xfrm>
              <a:off x="476280" y="2637000"/>
              <a:ext cx="243360" cy="31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Comic Sans MS"/>
                </a:rPr>
                <a:t>ACTIVIDAD  ENZIMÁTICA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Cuadro de texto 12"/>
            <p:cNvSpPr/>
            <p:nvPr/>
          </p:nvSpPr>
          <p:spPr>
            <a:xfrm>
              <a:off x="2579760" y="6144840"/>
              <a:ext cx="31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Comic Sans MS"/>
                </a:rPr>
                <a:t>CONCENTRACIÓN DE ENZIMA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1 CuadroTexto"/>
          <p:cNvSpPr/>
          <p:nvPr/>
        </p:nvSpPr>
        <p:spPr>
          <a:xfrm>
            <a:off x="5724360" y="2475000"/>
            <a:ext cx="341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 establece la relación ent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antidad y Actividad de enzim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Velocidad de rea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rectamente proporcional a la concentración de enzim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ángulo 5"/>
          <p:cNvSpPr/>
          <p:nvPr/>
        </p:nvSpPr>
        <p:spPr>
          <a:xfrm>
            <a:off x="1025280" y="141156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TEMPERATUR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Imagen 7" descr="seis"/>
          <p:cNvPicPr/>
          <p:nvPr/>
        </p:nvPicPr>
        <p:blipFill>
          <a:blip r:embed="rId1"/>
          <a:srcRect l="5030" t="6583" r="4464" b="6536"/>
          <a:stretch/>
        </p:blipFill>
        <p:spPr>
          <a:xfrm>
            <a:off x="2268360" y="2071800"/>
            <a:ext cx="4680000" cy="45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1 CuadroTexto"/>
          <p:cNvSpPr/>
          <p:nvPr/>
        </p:nvSpPr>
        <p:spPr>
          <a:xfrm>
            <a:off x="3062880" y="260496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Temperatur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ópti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37" name="4 Conector angular"/>
          <p:cNvCxnSpPr/>
          <p:nvPr/>
        </p:nvCxnSpPr>
        <p:spPr>
          <a:xfrm flipH="1" rot="16200000">
            <a:off x="4014720" y="3375720"/>
            <a:ext cx="465840" cy="216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8" name="5 CuadroTexto"/>
          <p:cNvSpPr/>
          <p:nvPr/>
        </p:nvSpPr>
        <p:spPr>
          <a:xfrm>
            <a:off x="5152320" y="140796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[S], pH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n 2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40" name="1 CuadroTexto"/>
          <p:cNvSpPr/>
          <p:nvPr/>
        </p:nvSpPr>
        <p:spPr>
          <a:xfrm>
            <a:off x="3549600" y="220500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H óptim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2 CuadroTexto"/>
          <p:cNvSpPr/>
          <p:nvPr/>
        </p:nvSpPr>
        <p:spPr>
          <a:xfrm>
            <a:off x="3597840" y="52862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1 CuadroTexto"/>
          <p:cNvSpPr/>
          <p:nvPr/>
        </p:nvSpPr>
        <p:spPr>
          <a:xfrm>
            <a:off x="1141560" y="573264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PH ÓPTIMO ES AQUEL EN EL CUAL EL ESTADO DE DISOCIACIÓN DE LOS GRUPOS ESENCIALES ES EL MÁS APROPIADO PARA INTERACCIONAR EN EL COMPLEJO 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2 CuadroTexto"/>
          <p:cNvSpPr/>
          <p:nvPr/>
        </p:nvSpPr>
        <p:spPr>
          <a:xfrm>
            <a:off x="5219640" y="2033640"/>
            <a:ext cx="331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Los cambios del pH del medio afectan el estado de ionización de grupos funcionales de las moléculas de E y S.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omic Sans MS"/>
              </a:rPr>
              <a:t>Para la formación del [ES] es necesaria una correcta distribución de las cargas en ambas moléculas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ángulo 5"/>
          <p:cNvSpPr/>
          <p:nvPr/>
        </p:nvSpPr>
        <p:spPr>
          <a:xfrm>
            <a:off x="771480" y="134028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FECTO DEL p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Imagen 7" descr="cinco"/>
          <p:cNvPicPr/>
          <p:nvPr/>
        </p:nvPicPr>
        <p:blipFill>
          <a:blip r:embed="rId1"/>
          <a:srcRect l="7214" t="7198" r="5065" b="8305"/>
          <a:stretch/>
        </p:blipFill>
        <p:spPr>
          <a:xfrm>
            <a:off x="2124000" y="1916280"/>
            <a:ext cx="5040360" cy="48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1 CuadroTexto"/>
          <p:cNvSpPr/>
          <p:nvPr/>
        </p:nvSpPr>
        <p:spPr>
          <a:xfrm>
            <a:off x="4387320" y="133200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T°C, [S]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ángulo 4"/>
          <p:cNvSpPr/>
          <p:nvPr/>
        </p:nvSpPr>
        <p:spPr>
          <a:xfrm>
            <a:off x="538200" y="198000"/>
            <a:ext cx="806616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FACTORES QUE AFECTAN LA VELOCIDAD DE LA REAC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Imagen 5" descr=""/>
          <p:cNvPicPr/>
          <p:nvPr/>
        </p:nvPicPr>
        <p:blipFill>
          <a:blip r:embed="rId1"/>
          <a:stretch/>
        </p:blipFill>
        <p:spPr>
          <a:xfrm>
            <a:off x="538200" y="2421000"/>
            <a:ext cx="4919760" cy="3930480"/>
          </a:xfrm>
          <a:prstGeom prst="rect">
            <a:avLst/>
          </a:prstGeom>
          <a:ln w="0">
            <a:noFill/>
          </a:ln>
        </p:spPr>
      </p:pic>
      <p:sp>
        <p:nvSpPr>
          <p:cNvPr id="150" name="Rectángulo 6"/>
          <p:cNvSpPr/>
          <p:nvPr/>
        </p:nvSpPr>
        <p:spPr>
          <a:xfrm>
            <a:off x="1946880" y="12704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CONCENTRACIÓN DEL SUSTRATO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2818080" y="184464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[E], pH, T°C: constan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2 CuadroTexto"/>
          <p:cNvSpPr/>
          <p:nvPr/>
        </p:nvSpPr>
        <p:spPr>
          <a:xfrm>
            <a:off x="2480760" y="4581360"/>
            <a:ext cx="24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urva hiperból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3" name="4 Conector angular"/>
          <p:cNvCxnSpPr/>
          <p:nvPr/>
        </p:nvCxnSpPr>
        <p:spPr>
          <a:xfrm rot="10800000">
            <a:off x="1546920" y="4903200"/>
            <a:ext cx="963000" cy="18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4" name="5 CuadroTexto"/>
          <p:cNvSpPr/>
          <p:nvPr/>
        </p:nvSpPr>
        <p:spPr>
          <a:xfrm>
            <a:off x="5580000" y="254628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Reacción de primer orden: existe proporcionalidad entre velocidad y [S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ángulo 5"/>
          <p:cNvSpPr/>
          <p:nvPr/>
        </p:nvSpPr>
        <p:spPr>
          <a:xfrm>
            <a:off x="771840" y="555120"/>
            <a:ext cx="7465320" cy="1373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(1913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Relación precisa entre velocidad inicial y [S]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ángulo 6"/>
          <p:cNvSpPr/>
          <p:nvPr/>
        </p:nvSpPr>
        <p:spPr>
          <a:xfrm>
            <a:off x="455760" y="2344320"/>
            <a:ext cx="842472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Comic Sans MS"/>
              </a:rPr>
              <a:t>Constante de Michaelis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( Km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Es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aracterístic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 una enzima y su sustrato particular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Reflej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afinidad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del sustrato por la enzim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Km es numéricamente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concentración del sustrato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 que corresponde a una velocidad de reacción igual a la </a:t>
            </a:r>
            <a:r>
              <a:rPr b="1" lang="es-AR" sz="2200" spc="-1" strike="noStrike">
                <a:solidFill>
                  <a:srgbClr val="ffff00"/>
                </a:solidFill>
                <a:latin typeface="Comic Sans MS"/>
              </a:rPr>
              <a:t>mitad de la velocidad máxima</a:t>
            </a:r>
            <a:r>
              <a:rPr b="1" lang="es-A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En condiciones definidas de pH, T°C, </a:t>
            </a:r>
            <a:r>
              <a:rPr b="1" lang="es-MX" sz="2200" spc="-1" strike="noStrike">
                <a:solidFill>
                  <a:srgbClr val="ffff00"/>
                </a:solidFill>
                <a:latin typeface="Comic Sans MS"/>
              </a:rPr>
              <a:t>Km tiene un valor fijo para cada enzima</a:t>
            </a:r>
            <a:r>
              <a:rPr b="1" lang="es-MX" sz="2200" spc="-1" strike="noStrike">
                <a:solidFill>
                  <a:srgbClr val="ffffff"/>
                </a:solidFill>
                <a:latin typeface="Comic Sans MS"/>
              </a:rPr>
              <a:t> y sirve para caracterizarl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1 Rectángulo"/>
          <p:cNvSpPr/>
          <p:nvPr/>
        </p:nvSpPr>
        <p:spPr>
          <a:xfrm>
            <a:off x="4500720" y="476280"/>
            <a:ext cx="4535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Orden de la reacció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enor a Km, la velocidad de reacción es proporcional a la [S]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primer orden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uando [S] es mayor a Km, la velocidad de reacción es constante e igual a Vmax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lo tanto la </a:t>
            </a:r>
            <a:r>
              <a:rPr b="1" lang="es-AR" sz="2000" spc="-1" strike="noStrike" u="sng">
                <a:solidFill>
                  <a:srgbClr val="ffff00"/>
                </a:solidFill>
                <a:uFillTx/>
                <a:latin typeface="Comic Sans MS"/>
              </a:rPr>
              <a:t>velocidad de reacción es de orden cero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con respecto a la concentración del sustrato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4140360" cy="378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77720" y="4265640"/>
            <a:ext cx="3237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ángulo 4"/>
          <p:cNvSpPr/>
          <p:nvPr/>
        </p:nvSpPr>
        <p:spPr>
          <a:xfrm>
            <a:off x="1479240" y="180000"/>
            <a:ext cx="614268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ECUACIÓN DE MICHAELIS- MENT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omic Sans MS"/>
              </a:rPr>
              <a:t>Cinética del estado estacionario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1" name="Grupo 17"/>
          <p:cNvGrpSpPr/>
          <p:nvPr/>
        </p:nvGrpSpPr>
        <p:grpSpPr>
          <a:xfrm>
            <a:off x="755640" y="981000"/>
            <a:ext cx="7776720" cy="1266120"/>
            <a:chOff x="755640" y="981000"/>
            <a:chExt cx="7776720" cy="1266120"/>
          </a:xfrm>
        </p:grpSpPr>
        <p:sp>
          <p:nvSpPr>
            <p:cNvPr id="162" name="Cuadro de texto 6"/>
            <p:cNvSpPr/>
            <p:nvPr/>
          </p:nvSpPr>
          <p:spPr>
            <a:xfrm>
              <a:off x="661896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P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Cuadro de texto 7"/>
            <p:cNvSpPr/>
            <p:nvPr/>
          </p:nvSpPr>
          <p:spPr>
            <a:xfrm>
              <a:off x="4327200" y="1273320"/>
              <a:ext cx="216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Cuadro de texto 8"/>
            <p:cNvSpPr/>
            <p:nvPr/>
          </p:nvSpPr>
          <p:spPr>
            <a:xfrm>
              <a:off x="755640" y="1273320"/>
              <a:ext cx="191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3200" spc="-1" strike="noStrike">
                  <a:solidFill>
                    <a:srgbClr val="ffffff"/>
                  </a:solidFill>
                  <a:latin typeface="Arial"/>
                </a:rPr>
                <a:t>E  +  S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Cuadro de texto 9"/>
            <p:cNvSpPr/>
            <p:nvPr/>
          </p:nvSpPr>
          <p:spPr>
            <a:xfrm>
              <a:off x="2926080" y="981000"/>
              <a:ext cx="102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Cuadro de texto 10"/>
            <p:cNvSpPr/>
            <p:nvPr/>
          </p:nvSpPr>
          <p:spPr>
            <a:xfrm>
              <a:off x="2921760" y="1841400"/>
              <a:ext cx="681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Cuadro de texto 11"/>
            <p:cNvSpPr/>
            <p:nvPr/>
          </p:nvSpPr>
          <p:spPr>
            <a:xfrm>
              <a:off x="5475240" y="1045080"/>
              <a:ext cx="101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s-AR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8" name="Grupo 12"/>
            <p:cNvGrpSpPr/>
            <p:nvPr/>
          </p:nvGrpSpPr>
          <p:grpSpPr>
            <a:xfrm>
              <a:off x="2795760" y="1501200"/>
              <a:ext cx="1019160" cy="228960"/>
              <a:chOff x="2795760" y="1501200"/>
              <a:chExt cx="1019160" cy="228960"/>
            </a:xfrm>
          </p:grpSpPr>
          <p:sp>
            <p:nvSpPr>
              <p:cNvPr id="169" name="Línea 13"/>
              <p:cNvSpPr/>
              <p:nvPr/>
            </p:nvSpPr>
            <p:spPr>
              <a:xfrm>
                <a:off x="2796120" y="1501200"/>
                <a:ext cx="1015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Línea 14"/>
              <p:cNvSpPr/>
              <p:nvPr/>
            </p:nvSpPr>
            <p:spPr>
              <a:xfrm flipH="1">
                <a:off x="2795760" y="1730160"/>
                <a:ext cx="1019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71" name="Línea 15"/>
            <p:cNvSpPr/>
            <p:nvPr/>
          </p:nvSpPr>
          <p:spPr>
            <a:xfrm>
              <a:off x="5348160" y="1613880"/>
              <a:ext cx="101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172" name="Imagen 18" descr=""/>
          <p:cNvPicPr/>
          <p:nvPr/>
        </p:nvPicPr>
        <p:blipFill>
          <a:blip r:embed="rId1"/>
          <a:stretch/>
        </p:blipFill>
        <p:spPr>
          <a:xfrm>
            <a:off x="493560" y="2887560"/>
            <a:ext cx="3456000" cy="1592280"/>
          </a:xfrm>
          <a:prstGeom prst="rect">
            <a:avLst/>
          </a:prstGeom>
          <a:ln w="0">
            <a:noFill/>
          </a:ln>
        </p:spPr>
      </p:pic>
      <p:sp>
        <p:nvSpPr>
          <p:cNvPr id="173" name="Cuadro de texto 19"/>
          <p:cNvSpPr/>
          <p:nvPr/>
        </p:nvSpPr>
        <p:spPr>
          <a:xfrm>
            <a:off x="5651640" y="4005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ángulo 21"/>
          <p:cNvSpPr/>
          <p:nvPr/>
        </p:nvSpPr>
        <p:spPr>
          <a:xfrm>
            <a:off x="360720" y="5089320"/>
            <a:ext cx="4502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1" i="1" lang="es-AR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inicial de la reacció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Vmáx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Velocidad Máxim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Km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stante de Michael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[S]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0" i="1" lang="es-AR" sz="2000" spc="-1" strike="noStrike">
                <a:solidFill>
                  <a:srgbClr val="ffffff"/>
                </a:solidFill>
                <a:latin typeface="Comic Sans MS"/>
              </a:rPr>
              <a:t>concentración del sustrat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Imagen 22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821040" cy="3052800"/>
          </a:xfrm>
          <a:prstGeom prst="rect">
            <a:avLst/>
          </a:prstGeom>
          <a:ln w="0">
            <a:noFill/>
          </a:ln>
        </p:spPr>
      </p:pic>
      <p:sp>
        <p:nvSpPr>
          <p:cNvPr id="176" name="1 CuadroTexto"/>
          <p:cNvSpPr/>
          <p:nvPr/>
        </p:nvSpPr>
        <p:spPr>
          <a:xfrm>
            <a:off x="6330600" y="20210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Reacción de orden ce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77" name="3 Conector angular"/>
          <p:cNvCxnSpPr/>
          <p:nvPr/>
        </p:nvCxnSpPr>
        <p:spPr>
          <a:xfrm flipH="1" rot="16200000">
            <a:off x="7940520" y="2405160"/>
            <a:ext cx="608760" cy="57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78" name="4 Rectángulo"/>
          <p:cNvSpPr/>
          <p:nvPr/>
        </p:nvSpPr>
        <p:spPr>
          <a:xfrm>
            <a:off x="6467400" y="4259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Reacción de 1° ord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Imagen 18" descr=""/>
          <p:cNvPicPr/>
          <p:nvPr/>
        </p:nvPicPr>
        <p:blipFill>
          <a:blip r:embed="rId3"/>
          <a:stretch/>
        </p:blipFill>
        <p:spPr>
          <a:xfrm>
            <a:off x="5576760" y="4275000"/>
            <a:ext cx="1043280" cy="2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CuadroTexto"/>
          <p:cNvSpPr/>
          <p:nvPr/>
        </p:nvSpPr>
        <p:spPr>
          <a:xfrm>
            <a:off x="250920" y="69228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La ecuación de Michaelis- Menten puede ser transformada algebraicamente en ecuaciones utilizables para la determinación práctica del valor de K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 decir, transformamos matemáticamente una curva hiperbólica en una rect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Al invertir la ecuación de Michaelis- Menten se obtiene la ecuación de una recta llamad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00"/>
                </a:solidFill>
                <a:uFillTx/>
                <a:latin typeface="Comic Sans MS"/>
              </a:rPr>
              <a:t>LINEWEAVER-BU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uadro de texto 4"/>
          <p:cNvSpPr/>
          <p:nvPr/>
        </p:nvSpPr>
        <p:spPr>
          <a:xfrm>
            <a:off x="611280" y="692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s transformaciones bioquímicas en los seres vivo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ocurr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Cuadro de texto 5"/>
          <p:cNvSpPr/>
          <p:nvPr/>
        </p:nvSpPr>
        <p:spPr>
          <a:xfrm>
            <a:off x="539640" y="1700280"/>
            <a:ext cx="817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 gran velocida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on gran especificida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condiciones muy moderadas de temperatura, pH, presión, etc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Cuadro de texto 6"/>
          <p:cNvSpPr/>
          <p:nvPr/>
        </p:nvSpPr>
        <p:spPr>
          <a:xfrm>
            <a:off x="755640" y="4076640"/>
            <a:ext cx="7632720" cy="1191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Un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catalizador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es una sustancia capaz de acelerar una reacción química sin formar parte de los productos finales ni desgastarse en el proces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ángulo 5"/>
          <p:cNvSpPr/>
          <p:nvPr/>
        </p:nvSpPr>
        <p:spPr>
          <a:xfrm>
            <a:off x="1873800" y="259560"/>
            <a:ext cx="60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Comic Sans MS"/>
              </a:rPr>
              <a:t>ECUACIÓN DE LINEWEAVER-BUR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Imagen 6" descr=""/>
          <p:cNvPicPr/>
          <p:nvPr/>
        </p:nvPicPr>
        <p:blipFill>
          <a:blip r:embed="rId1"/>
          <a:stretch/>
        </p:blipFill>
        <p:spPr>
          <a:xfrm>
            <a:off x="2266920" y="1125360"/>
            <a:ext cx="4826160" cy="165132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7" descr=""/>
          <p:cNvPicPr/>
          <p:nvPr/>
        </p:nvPicPr>
        <p:blipFill>
          <a:blip r:embed="rId2"/>
          <a:srcRect l="0" t="0" r="6045" b="0"/>
          <a:stretch/>
        </p:blipFill>
        <p:spPr>
          <a:xfrm>
            <a:off x="5651640" y="2997360"/>
            <a:ext cx="328284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Cuadro de texto 25"/>
          <p:cNvSpPr/>
          <p:nvPr/>
        </p:nvSpPr>
        <p:spPr>
          <a:xfrm>
            <a:off x="71280" y="3016080"/>
            <a:ext cx="518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rdenada al origen = 1/V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áx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Cuadro de texto 27"/>
          <p:cNvSpPr/>
          <p:nvPr/>
        </p:nvSpPr>
        <p:spPr>
          <a:xfrm>
            <a:off x="147600" y="3686040"/>
            <a:ext cx="5113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tersección c/eje x = - 1/K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1 CuadroTexto"/>
          <p:cNvSpPr/>
          <p:nvPr/>
        </p:nvSpPr>
        <p:spPr>
          <a:xfrm>
            <a:off x="39600" y="4365720"/>
            <a:ext cx="55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valor de km guarda relación inversa con la afinidad de l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 por el 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A MAYOR AFINIDAD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MENOR VALOR DE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 de texto 4"/>
          <p:cNvSpPr/>
          <p:nvPr/>
        </p:nvSpPr>
        <p:spPr>
          <a:xfrm>
            <a:off x="3419640" y="549360"/>
            <a:ext cx="216036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Cuadro de texto 5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os </a:t>
            </a:r>
            <a:r>
              <a:rPr b="0" i="1" lang="es-AR" sz="2400" spc="-1" strike="noStrike">
                <a:solidFill>
                  <a:srgbClr val="ffffff"/>
                </a:solidFill>
                <a:latin typeface="Comic Sans MS"/>
              </a:rPr>
              <a:t>catalizadores biológico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son macromoléculas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Cuadro de texto 6"/>
          <p:cNvSpPr/>
          <p:nvPr/>
        </p:nvSpPr>
        <p:spPr>
          <a:xfrm>
            <a:off x="684360" y="44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ctividad catalítica: depende de la integridad de su conformación proteica nativa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Cuadro de texto 7"/>
          <p:cNvSpPr/>
          <p:nvPr/>
        </p:nvSpPr>
        <p:spPr>
          <a:xfrm>
            <a:off x="826920" y="25574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La mayoría de las enzimas son 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con la excepción de un pequeño grupo de moléculas de RNA catalítico, llamadas </a:t>
            </a: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ribozimas</a:t>
            </a:r>
            <a:r>
              <a:rPr b="1" i="1" lang="es-A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782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PROTEINAS y RNA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(Ribozimas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ructura terciaria y cuaternar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TIO DE UNION AL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Uniones no Covalentes (puente de hidrógeno, hidrofóbicas, electrostátic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NECESITAN DE FACTORES 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Inorgánicos (metales) y orgánicos (Coenzima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SPECIFICIDAD DE SUSTRATO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stéreo-especificidad y especificidad  geométr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ON REGULAB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La síntesis de la proteína, su actividad y degradació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2 Rectángulo"/>
          <p:cNvSpPr/>
          <p:nvPr/>
        </p:nvSpPr>
        <p:spPr>
          <a:xfrm>
            <a:off x="1187280" y="2919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CARACTERISTICAS DE LAS ENZIMA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COMPARTIMENTALIZACION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Diferente localización dentro de la célul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SISTEMAS MULTIENZIMATICO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Enzimas relacionadas agrupadas formando verdaderos complejo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Comic Sans MS"/>
              </a:rPr>
              <a:t>ENZIMAS MULTIFUNCIONALES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Una enzima que presenta varios sitios catalíticos distintos en una misma cadena polipeptídica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2 Rectángulo"/>
          <p:cNvSpPr/>
          <p:nvPr/>
        </p:nvSpPr>
        <p:spPr>
          <a:xfrm>
            <a:off x="97164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DISTRIBUCION DE LAS ENZI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141120" y="227664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Oxido-reduc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otura y formación de enlaces C-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organizaciones intern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Transferencia de grup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acciones de condensació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1258920" y="5493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Tipos de reacciones catalizadas por enzim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Cuadro de texto 4"/>
          <p:cNvSpPr/>
          <p:nvPr/>
        </p:nvSpPr>
        <p:spPr>
          <a:xfrm>
            <a:off x="250920" y="333360"/>
            <a:ext cx="860400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omic Sans MS"/>
              </a:rPr>
              <a:t>NOMENCLATURA Y CLASIFICACIÓN DE ENZIMAS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Cuadro de texto 5"/>
          <p:cNvSpPr/>
          <p:nvPr/>
        </p:nvSpPr>
        <p:spPr>
          <a:xfrm>
            <a:off x="395280" y="16034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 común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: nombre de uso cotidia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Cuadro de texto 6"/>
          <p:cNvSpPr/>
          <p:nvPr/>
        </p:nvSpPr>
        <p:spPr>
          <a:xfrm>
            <a:off x="1332000" y="2305080"/>
            <a:ext cx="640872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+ nombre del sustrato de la reacción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Cuadro de texto 7"/>
          <p:cNvSpPr/>
          <p:nvPr/>
        </p:nvSpPr>
        <p:spPr>
          <a:xfrm>
            <a:off x="1330200" y="32259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jemplo: sacar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ure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amil</a:t>
            </a:r>
            <a:r>
              <a:rPr b="0" lang="es-AR" sz="2400" spc="-1" strike="noStrike">
                <a:solidFill>
                  <a:srgbClr val="ffff00"/>
                </a:solidFill>
                <a:latin typeface="Comic Sans MS"/>
              </a:rPr>
              <a:t>asa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, etc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Cuadro de texto 8"/>
          <p:cNvSpPr/>
          <p:nvPr/>
        </p:nvSpPr>
        <p:spPr>
          <a:xfrm>
            <a:off x="0" y="3933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arbitrario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ptialina salival, pepsina del jugo gástrico, etc.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Cuadro de texto 9"/>
          <p:cNvSpPr/>
          <p:nvPr/>
        </p:nvSpPr>
        <p:spPr>
          <a:xfrm>
            <a:off x="324000" y="537372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Comic Sans MS"/>
              </a:rPr>
              <a:t>Nombres según el tipo de reacción catalizada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Ej: deshidrogenasas, carboxilasa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54:11Z</dcterms:created>
  <dc:creator>Nuria</dc:creator>
  <dc:description/>
  <dc:language>en-US</dc:language>
  <cp:lastModifiedBy>Preferred Customer</cp:lastModifiedBy>
  <dcterms:modified xsi:type="dcterms:W3CDTF">2014-08-27T18:21:23Z</dcterms:modified>
  <cp:revision>213</cp:revision>
  <dc:subject/>
  <dc:title>Diapositiva 1</dc:title>
</cp:coreProperties>
</file>